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6862-6984-44BF-8E64-249C95622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6C75-97DF-43A2-A3F7-FF01509C3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A421-7F83-4653-BD95-162DD1630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EE1B-2D8C-4815-A9F9-242F09046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7CBEF-4459-4BC2-8D1F-97A067F3B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7C629-6A64-4820-BD27-D7D4D8FAB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1B2CB-605C-4D4F-B48B-0BEB66178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9D273-5EA5-4167-B4AC-A32123AA2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6AFCB-AEA2-4818-BDA3-B7C190EF3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EE3EA-B904-4426-BE4B-769E7CAD8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277D9-CA07-4108-A853-AB2BEABE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EE1E-9D1C-48DD-9483-CE0E90386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76160-BFCC-403D-A907-E07591DF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6E0BE-C345-463E-BF9C-7E208E77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D6EF6-A521-42F4-B73C-D51540BBD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09AF7-EBF8-48ED-B223-23032D617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7151B-696A-4A04-8B29-BA3B40606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5D80-0108-4728-B2EA-CC076D637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3166-3A45-488E-9A31-EA7E854A5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7003-BA73-44BA-9B3E-C584AF6F5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87B2-3FFC-4E0A-ADF7-43B6E9A79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609E-CF3B-4876-A2AD-2DBFCABB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F0E6-F75C-42D4-B0BE-1F70A09D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5F08-AAEF-4C28-BEE1-CEBF6C3E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5B597-BCE5-4092-B500-AF59F9A3268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73409-7A73-4F67-B62B-2F3F8E33C93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3200" y="-360"/>
            <a:ext cx="838044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3cc"/>
                </a:solidFill>
                <a:latin typeface="Arial Narrow"/>
              </a:rPr>
              <a:t>International Walls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8288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s. Moody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ulpture Class 20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724280" y="2819520"/>
            <a:ext cx="2517840" cy="33415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018480" y="629460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 Sarah Anders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en-US" sz="6600" spc="-1" strike="noStrike">
                <a:solidFill>
                  <a:srgbClr val="800000"/>
                </a:solidFill>
                <a:latin typeface="Arial Narrow"/>
              </a:rPr>
              <a:t> </a:t>
            </a:r>
            <a:br>
              <a:rPr sz="6600"/>
            </a:br>
            <a:r>
              <a:rPr b="1" lang="en-US" sz="6600" spc="-1" strike="noStrike">
                <a:solidFill>
                  <a:srgbClr val="800000"/>
                </a:solidFill>
                <a:latin typeface="Arial Narrow"/>
              </a:rPr>
              <a:t>In the beginning……</a:t>
            </a:r>
            <a:br>
              <a:rPr sz="4400"/>
            </a:b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was just Ms. Moody’s BIG ide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hundred or so box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108840" y="1981080"/>
            <a:ext cx="2641320" cy="19814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095880" y="4343400"/>
            <a:ext cx="264168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 Narrow"/>
              </a:rPr>
              <a:t> </a:t>
            </a:r>
            <a:r>
              <a:rPr b="1" lang="en-US" sz="4400" spc="-1" strike="noStrike">
                <a:solidFill>
                  <a:srgbClr val="800000"/>
                </a:solidFill>
                <a:latin typeface="Arial Narrow"/>
              </a:rPr>
              <a:t>Objective</a:t>
            </a:r>
            <a:r>
              <a:rPr b="1" lang="en-US" sz="2800" spc="-1" strike="noStrike">
                <a:solidFill>
                  <a:srgbClr val="800000"/>
                </a:solidFill>
                <a:latin typeface="Arial Narrow"/>
              </a:rPr>
              <a:t>: </a:t>
            </a:r>
            <a:br>
              <a:rPr sz="2800"/>
            </a:br>
            <a:br>
              <a:rPr sz="2800"/>
            </a:br>
            <a:r>
              <a:rPr b="1" lang="en-US" sz="3600" spc="-1" strike="noStrike">
                <a:solidFill>
                  <a:srgbClr val="800000"/>
                </a:solidFill>
                <a:latin typeface="Arial Narrow"/>
              </a:rPr>
              <a:t>Students were challenged to build a sculptural wall out of boxes and create a group design that communicated the environment of their culture. 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Students brainstormed and then completed research about the countries political, social and environmental aspects using the Culturegrams database in the libr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28240" y="-360"/>
            <a:ext cx="8915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The research results were amazing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419720" y="914400"/>
            <a:ext cx="41148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The boxes were painted white 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14440" y="1371600"/>
            <a:ext cx="3371760" cy="4495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867280" y="1171440"/>
            <a:ext cx="2882880" cy="21621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105520" y="3809880"/>
            <a:ext cx="3416040" cy="25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 Narrow"/>
              </a:rPr>
              <a:t>The group designs were then enlarged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Arial Narrow"/>
              </a:rPr>
              <a:t>an transferred to the wall of boxes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4114800" cy="3085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029200" y="274320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447560" y="568008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razil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248880" y="5715000"/>
            <a:ext cx="184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gypt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The backgrounds were painted and layers of cardboard were cut to add relief to the wall surface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2971800" cy="39621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572000" y="3048120"/>
            <a:ext cx="3733920" cy="28000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523160" y="640080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ma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232680" y="5832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i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07696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 Narrow"/>
              </a:rPr>
              <a:t>The walls are in progress…So stayed tuned for an updat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371600" y="2324160"/>
            <a:ext cx="6781680" cy="36194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658680" y="5943600"/>
            <a:ext cx="13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Japa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2971800" cy="2229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105520" y="152280"/>
            <a:ext cx="3124080" cy="23432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200400" y="2666880"/>
            <a:ext cx="2685960" cy="35816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448640" y="24382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ee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2200" y="243828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raz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33920" y="6400800"/>
            <a:ext cx="174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th Afr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00:36:34Z</dcterms:created>
  <dc:creator>Owner</dc:creator>
  <dc:description/>
  <dc:language>en-US</dc:language>
  <cp:lastModifiedBy>WCPSS</cp:lastModifiedBy>
  <dcterms:modified xsi:type="dcterms:W3CDTF">2011-04-01T14:36:32Z</dcterms:modified>
  <cp:revision>7</cp:revision>
  <dc:subject/>
  <dc:title>International Wall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